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1"/>
          <p:cNvSpPr/>
          <p:nvPr/>
        </p:nvSpPr>
        <p:spPr>
          <a:xfrm>
            <a:off x="787320" y="762120"/>
            <a:ext cx="11430000" cy="8204040"/>
          </a:xfrm>
          <a:prstGeom prst="roundRect">
            <a:avLst>
              <a:gd name="adj" fmla="val 926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091880" y="1383840"/>
            <a:ext cx="1082052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787680" indent="-41724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0564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23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91880" y="3466800"/>
            <a:ext cx="10820520" cy="283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32436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11640" indent="-324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93600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26072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8381880"/>
            <a:ext cx="9194760" cy="470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904760" y="8788320"/>
            <a:ext cx="9194760" cy="419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rmAutofit fontScale="17000"/>
          </a:bodyPr>
          <a:p>
            <a:pPr marL="58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1" marL="58320" indent="-58320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2" marL="58320" indent="-58320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3" marL="58320" indent="-58320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4" marL="58320" indent="-58320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5" marL="58320" indent="-58320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6" marL="58320" indent="-58320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32436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11640" indent="-324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93600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26072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5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41640" y="2577960"/>
            <a:ext cx="527076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32436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11640" indent="-324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93600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26072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585440" indent="-32436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1880" y="355680"/>
            <a:ext cx="10820520" cy="111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6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091880" y="1460160"/>
            <a:ext cx="10820520" cy="76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18000"/>
          </a:bodyPr>
          <a:p>
            <a:pPr marL="615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marL="61560" indent="-6156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marL="61560" indent="-61560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marL="61560" indent="-6156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marL="61560" indent="-61560" algn="ctr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marL="61560" indent="-6156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marL="61560" indent="-6156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2240" y="1638360"/>
            <a:ext cx="5270400" cy="3238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092240" y="4863600"/>
            <a:ext cx="5270400" cy="3327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69000"/>
          </a:bodyPr>
          <a:p>
            <a:pPr marL="236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marL="236520" indent="-23652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marL="236520" indent="-236520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marL="236520" indent="-23652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marL="236520" indent="-236520" algn="ctr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marL="236520" indent="-23652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marL="236520" indent="-23652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Urbana middle school courtyard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d6d6d"/>
                </a:solidFill>
                <a:latin typeface="Palatino"/>
              </a:rPr>
              <a:t>Courtyard Space Specifications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roughly 120 ft x 70 f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ompletely enclosed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has several existing trees and plant material 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Desired use of space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59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d6d6d"/>
                </a:solidFill>
                <a:latin typeface="Palatino"/>
              </a:rPr>
              <a:t>We would like the space to be: 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visually appealing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7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a space for teachers to take classes for instruction, reading or nature studies (an outdoor classroom)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7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d6d6d"/>
                </a:solidFill>
                <a:latin typeface="Palatino"/>
              </a:rPr>
              <a:t>Problems to be addressed: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removal of unusable materials (leaves, weeds, rocks, etc.)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7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plant identification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2"/>
          <a:srcRect l="1479" t="0" r="37706" b="0"/>
          <a:stretch/>
        </p:blipFill>
        <p:spPr>
          <a:xfrm>
            <a:off x="6908760" y="2465280"/>
            <a:ext cx="5092920" cy="628200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Under the big tree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92240" y="3123720"/>
            <a:ext cx="5270400" cy="497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95640" indent="-39564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d6d6d"/>
                </a:solidFill>
                <a:latin typeface="Palatino"/>
              </a:rPr>
              <a:t>We are not sure what type of tree this is.</a:t>
            </a:r>
            <a:endParaRPr b="0" lang="en-US" sz="3100" spc="-1" strike="noStrike">
              <a:solidFill>
                <a:srgbClr val="6d6d6d"/>
              </a:solidFill>
              <a:latin typeface="Palatino"/>
            </a:endParaRPr>
          </a:p>
          <a:p>
            <a:pPr marL="395640" indent="-395640">
              <a:spcBef>
                <a:spcPts val="29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d6d6d"/>
                </a:solidFill>
                <a:latin typeface="Palatino"/>
              </a:rPr>
              <a:t>There is not much grass under the tree.</a:t>
            </a:r>
            <a:endParaRPr b="0" lang="en-US" sz="3100" spc="-1" strike="noStrike">
              <a:solidFill>
                <a:srgbClr val="6d6d6d"/>
              </a:solidFill>
              <a:latin typeface="Palatino"/>
            </a:endParaRPr>
          </a:p>
          <a:p>
            <a:pPr marL="395640" indent="-395640">
              <a:spcBef>
                <a:spcPts val="29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d6d6d"/>
                </a:solidFill>
                <a:latin typeface="Palatino"/>
              </a:rPr>
              <a:t>It is shady under this tree.</a:t>
            </a:r>
            <a:endParaRPr b="0" lang="en-US" sz="3100" spc="-1" strike="noStrike">
              <a:solidFill>
                <a:srgbClr val="6d6d6d"/>
              </a:solidFill>
              <a:latin typeface="Palatino"/>
            </a:endParaRPr>
          </a:p>
          <a:p>
            <a:pPr marL="395640" indent="-395640">
              <a:spcBef>
                <a:spcPts val="29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d6d6d"/>
                </a:solidFill>
                <a:latin typeface="Palatino"/>
              </a:rPr>
              <a:t>Perhaps some shade plants or a shade garden?</a:t>
            </a:r>
            <a:endParaRPr b="0" lang="en-US" sz="31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" descr=""/>
          <p:cNvPicPr/>
          <p:nvPr/>
        </p:nvPicPr>
        <p:blipFill>
          <a:blip r:embed="rId2"/>
          <a:srcRect l="195" t="0" r="186" b="0"/>
          <a:stretch/>
        </p:blipFill>
        <p:spPr>
          <a:xfrm>
            <a:off x="1150920" y="851040"/>
            <a:ext cx="10693440" cy="804996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rcRect l="31060" t="6071" r="30948" b="26390"/>
          <a:stretch/>
        </p:blipFill>
        <p:spPr>
          <a:xfrm>
            <a:off x="7251840" y="2666880"/>
            <a:ext cx="4749840" cy="633276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Prairie grass area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Prairie grass?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ere is some type of tree here, too.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Not sure what to do here.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"/>
          <p:cNvPicPr/>
          <p:nvPr/>
        </p:nvPicPr>
        <p:blipFill>
          <a:blip r:embed="rId2"/>
          <a:srcRect l="195" t="0" r="186" b="0"/>
          <a:stretch/>
        </p:blipFill>
        <p:spPr>
          <a:xfrm>
            <a:off x="1150920" y="851040"/>
            <a:ext cx="10693440" cy="804996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2"/>
          <a:srcRect l="42865" t="1602" r="886" b="0"/>
          <a:stretch/>
        </p:blipFill>
        <p:spPr>
          <a:xfrm>
            <a:off x="7251840" y="2438280"/>
            <a:ext cx="4749840" cy="623088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Area between small trees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ere are some rocks and young trees here.  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ould we put a butterfly garden here?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" descr=""/>
          <p:cNvPicPr/>
          <p:nvPr/>
        </p:nvPicPr>
        <p:blipFill>
          <a:blip r:embed="rId2"/>
          <a:srcRect l="195" t="0" r="186" b="0"/>
          <a:stretch/>
        </p:blipFill>
        <p:spPr>
          <a:xfrm>
            <a:off x="1150920" y="851040"/>
            <a:ext cx="10693440" cy="8049960"/>
          </a:xfrm>
          <a:prstGeom prst="rect">
            <a:avLst/>
          </a:prstGeom>
          <a:ln w="177840">
            <a:solidFill>
              <a:srgbClr val="e6e7e5"/>
            </a:solidFill>
            <a:miter/>
          </a:ln>
          <a:effectLst>
            <a:outerShdw dist="190440" dir="5400000" blurRad="0" rotWithShape="0">
              <a:srgbClr val="000000">
                <a:alpha val="3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other concerns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91880" y="2400480"/>
            <a:ext cx="10820520" cy="670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3336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-33336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d6d"/>
                </a:solidFill>
                <a:latin typeface="Palatino"/>
              </a:rPr>
              <a:t>There are several picnic tables that we would like to group together for an instructional space.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-33336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d6d"/>
                </a:solidFill>
                <a:latin typeface="Palatino"/>
              </a:rPr>
              <a:t>is a small bench that can possibly be moved.  We are not sure if it is attached to the ground. 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-33336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d6d"/>
                </a:solidFill>
                <a:latin typeface="Palatino"/>
              </a:rPr>
              <a:t>We would like for this to be a visually appealing space for teachers and students.  If we could attract wildlife as well, that would be great.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-33336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d6d"/>
                </a:solidFill>
                <a:latin typeface="Palatino"/>
              </a:rPr>
              <a:t>All new plant materials must be low-maintenance.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-33336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We have a budget of $600.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33336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33336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licia Burge</cp:lastModifiedBy>
  <dcterms:modified xsi:type="dcterms:W3CDTF">2012-03-12T19:53:41Z</dcterms:modified>
  <cp:revision>2</cp:revision>
  <dc:subject/>
  <dc:title>Urbana middle school courtyard</dc:title>
</cp:coreProperties>
</file>